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FF43-C2AC-4E13-ACC3-FABB12D1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D273-C4A5-4A9F-82F9-F29FE5A2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699C-CB0A-4C1A-ABDF-5C063966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56B-7C7E-49E7-8034-379527F5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D3F-BFD3-4285-BA6D-9495850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342-61AC-4D7A-A4D0-C34519FE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943-939A-44AB-9D02-66480628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87F-F68C-4732-A809-63FCB846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13D-75AC-4ACE-9718-24B64F8C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8D2-61DB-4CF0-837B-67A1FF7F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3028-96A6-41C4-9E6B-BD9D9E29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37E-3690-492C-8AF2-82EBCC71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A7AF-7E50-4D67-873B-53DF187A1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GI/GMOD Update 9/03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l Richard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di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14375" t="16001" r="30002" b="25602"/>
          <a:stretch/>
        </p:blipFill>
        <p:spPr>
          <a:xfrm>
            <a:off x="1219320" y="762120"/>
            <a:ext cx="6781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tra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4375" t="18401" r="30002" b="18401"/>
          <a:stretch/>
        </p:blipFill>
        <p:spPr>
          <a:xfrm>
            <a:off x="1752480" y="304920"/>
            <a:ext cx="556272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rend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3752" t="20000" r="36878" b="29601"/>
          <a:stretch/>
        </p:blipFill>
        <p:spPr>
          <a:xfrm>
            <a:off x="2666880" y="914400"/>
            <a:ext cx="3581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ML: ap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1251" t="28002" r="18751" b="14402"/>
          <a:stretch/>
        </p:blipFill>
        <p:spPr>
          <a:xfrm>
            <a:off x="99072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qdb_eng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framework for building and maintaining customized blastable datab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d by MGI to build the MouseBLAST set of databases (19 external, 25 inter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class framework for filtering and routing sequence rec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 processing based on ma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wor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dle change in GenBank release proce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ndling for external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38080" y="838080"/>
            <a:ext cx="7467840" cy="5105160"/>
            <a:chOff x="838080" y="838080"/>
            <a:chExt cx="7467840" cy="5105160"/>
          </a:xfrm>
        </p:grpSpPr>
        <p:sp>
          <p:nvSpPr>
            <p:cNvPr id="47" name=""/>
            <p:cNvSpPr/>
            <p:nvPr/>
          </p:nvSpPr>
          <p:spPr>
            <a:xfrm>
              <a:off x="7162920" y="2424600"/>
              <a:ext cx="1143000" cy="689760"/>
            </a:xfrm>
            <a:prstGeom prst="can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u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38880" y="4218480"/>
              <a:ext cx="1067040" cy="758880"/>
            </a:xfrm>
            <a:prstGeom prst="can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m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RN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38080" y="1320480"/>
              <a:ext cx="6095880" cy="4553280"/>
              <a:chOff x="838080" y="1320480"/>
              <a:chExt cx="6095880" cy="4553280"/>
            </a:xfrm>
          </p:grpSpPr>
          <p:sp>
            <p:nvSpPr>
              <p:cNvPr id="50" name=""/>
              <p:cNvSpPr/>
              <p:nvPr/>
            </p:nvSpPr>
            <p:spPr>
              <a:xfrm>
                <a:off x="2869920" y="2099160"/>
                <a:ext cx="1151280" cy="5986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802240" y="2158920"/>
                <a:ext cx="115164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69920" y="132048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02240" y="1380240"/>
                <a:ext cx="1151640" cy="5986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8080" y="233892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R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38080" y="341712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T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38080" y="509508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3456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34560" y="2219040"/>
                <a:ext cx="1151280" cy="599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38080" y="1440000"/>
                <a:ext cx="1151280" cy="59904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R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734560" y="305784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34560" y="3776760"/>
                <a:ext cx="1151280" cy="599040"/>
              </a:xfrm>
              <a:prstGeom prst="rect">
                <a:avLst/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34560" y="455580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ouse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734560" y="5274720"/>
                <a:ext cx="1151280" cy="5990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hum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mRNA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057040" y="167976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57040" y="25185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2057040" y="3416760"/>
                <a:ext cx="609480" cy="23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57040" y="3776760"/>
                <a:ext cx="609480" cy="11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057040" y="4915080"/>
                <a:ext cx="609480" cy="419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57040" y="5454360"/>
                <a:ext cx="609480" cy="5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4902120" y="2279160"/>
                <a:ext cx="1151280" cy="1197720"/>
                <a:chOff x="4902120" y="2279160"/>
                <a:chExt cx="1151280" cy="1197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902120" y="2279160"/>
                  <a:ext cx="1151280" cy="39924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02120" y="2678400"/>
                  <a:ext cx="1151280" cy="39924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902120" y="30776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902120" y="4136400"/>
                <a:ext cx="1151280" cy="1198080"/>
                <a:chOff x="4902120" y="4136400"/>
                <a:chExt cx="1151280" cy="11980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902120" y="4136400"/>
                  <a:ext cx="1151280" cy="3992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902120" y="4535640"/>
                  <a:ext cx="1151280" cy="399600"/>
                </a:xfrm>
                <a:prstGeom prst="rect">
                  <a:avLst/>
                </a:prstGeom>
                <a:solidFill>
                  <a:srgbClr val="ff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902120" y="4935240"/>
                  <a:ext cx="1151280" cy="3992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750840" y="1799640"/>
                <a:ext cx="1083240" cy="59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818160" y="2578680"/>
                <a:ext cx="10836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953880" y="281808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953880" y="3297240"/>
                <a:ext cx="880200" cy="1557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953880" y="4076640"/>
                <a:ext cx="880200" cy="538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953880" y="5094720"/>
                <a:ext cx="880200" cy="479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189120" y="2878200"/>
                <a:ext cx="609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89120" y="4675680"/>
                <a:ext cx="744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228600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0" y="83808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8840" y="83808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u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19720" y="118260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77120" y="1251720"/>
              <a:ext cx="0" cy="469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4680" y="8380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ess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7600" y="603576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88040" y="6035760"/>
            <a:ext cx="170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medi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7280" y="603576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3280" y="6035760"/>
            <a:ext cx="137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qu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: Gene Expression Noteboo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ab-notebook application for managing gene expression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ays, reagents,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data submission to GX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ed in Exc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on ports to Win 2000, Mac OS/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l ain’t so cross-platform!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e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tology Browser/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iginal proposal: reimplement MGI’s text-based browser in Java, then re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tter browsers already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prototyping work at MG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aphical displays (using AT&amp;T GraphViz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SGD’s TermFi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lan: release the prototyp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s: soon (core libraries ready to g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totype GO Annotation View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15376"/>
          <a:stretch/>
        </p:blipFill>
        <p:spPr>
          <a:xfrm>
            <a:off x="533520" y="228600"/>
            <a:ext cx="804852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gf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8593" r="25113" b="4619"/>
          <a:stretch/>
        </p:blipFill>
        <p:spPr>
          <a:xfrm>
            <a:off x="1143000" y="228600"/>
            <a:ext cx="6553080" cy="6364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4191120" y="304776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Set: 78 ge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9376" t="23656" r="2344" b="5375"/>
          <a:stretch/>
        </p:blipFill>
        <p:spPr>
          <a:xfrm>
            <a:off x="533520" y="5335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un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2357" t="18183" r="5698" b="6362"/>
          <a:stretch/>
        </p:blipFill>
        <p:spPr>
          <a:xfrm>
            <a:off x="0" y="76320"/>
            <a:ext cx="8915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20:35:57Z</dcterms:created>
  <dc:creator>jer</dc:creator>
  <dc:description/>
  <dc:language>en-US</dc:language>
  <cp:lastModifiedBy>jer</cp:lastModifiedBy>
  <dcterms:modified xsi:type="dcterms:W3CDTF">2003-09-15T14:11:20Z</dcterms:modified>
  <cp:revision>14</cp:revision>
  <dc:subject/>
  <dc:title>PowerPoint Presentation</dc:title>
</cp:coreProperties>
</file>